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505-1ADA-46A8-91FA-782099F0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65B-E720-40AA-9045-4DB139EE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F1F-FFF7-45C4-A06B-AD149202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57EE-2E8A-4919-90EE-C30D1F81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E3E-88F1-4C6A-94B4-3094EC42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86C-5A3E-4643-AAAE-471EE8C0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AA6F-73FF-4900-A336-AFED989B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7E08-B353-4C49-994A-87D5C676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52E-EBBB-44F1-912E-1C8673E4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827C-6E8D-4B74-B828-2AD9D3AC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0A7-0B5D-43BB-BE76-83F7C597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E60-DB7D-4C9E-9784-F702C556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6E96-FC16-4B7E-841B-F566405C8C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1" descr="C:\Users\Selpo\Desktop\092x001.gif"/>
          <p:cNvPicPr/>
          <p:nvPr/>
        </p:nvPicPr>
        <p:blipFill>
          <a:blip r:embed="rId2"/>
          <a:stretch/>
        </p:blipFill>
        <p:spPr>
          <a:xfrm>
            <a:off x="6595920" y="23760"/>
            <a:ext cx="27860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chool system of Jap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map"/>
          <p:cNvPicPr/>
          <p:nvPr/>
        </p:nvPicPr>
        <p:blipFill>
          <a:blip r:embed="rId1"/>
          <a:stretch/>
        </p:blipFill>
        <p:spPr>
          <a:xfrm>
            <a:off x="142920" y="209520"/>
            <a:ext cx="6143760" cy="6434280"/>
          </a:xfrm>
          <a:prstGeom prst="rect">
            <a:avLst/>
          </a:prstGeom>
          <a:ln w="0">
            <a:noFill/>
          </a:ln>
        </p:spPr>
      </p:pic>
      <p:sp>
        <p:nvSpPr>
          <p:cNvPr id="44" name="Nach oben gebogener Pfeil 3"/>
          <p:cNvSpPr/>
          <p:nvPr/>
        </p:nvSpPr>
        <p:spPr>
          <a:xfrm flipV="1" rot="4420800">
            <a:off x="6777000" y="1580400"/>
            <a:ext cx="1193760" cy="11714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4"/>
          <p:cNvSpPr/>
          <p:nvPr/>
        </p:nvSpPr>
        <p:spPr>
          <a:xfrm>
            <a:off x="6438600" y="3071880"/>
            <a:ext cx="226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apital City: Toky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27.264.438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abit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ead of Stat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enno Akihi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ject 1" descr=""/>
          <p:cNvPicPr/>
          <p:nvPr/>
        </p:nvPicPr>
        <p:blipFill>
          <a:blip r:embed="rId1"/>
          <a:stretch/>
        </p:blipFill>
        <p:spPr>
          <a:xfrm>
            <a:off x="138240" y="212760"/>
            <a:ext cx="5246640" cy="6234120"/>
          </a:xfrm>
          <a:prstGeom prst="rect">
            <a:avLst/>
          </a:prstGeom>
          <a:ln w="0">
            <a:noFill/>
          </a:ln>
        </p:spPr>
      </p:pic>
      <p:sp>
        <p:nvSpPr>
          <p:cNvPr id="47" name="Textfeld 3"/>
          <p:cNvSpPr/>
          <p:nvPr/>
        </p:nvSpPr>
        <p:spPr>
          <a:xfrm>
            <a:off x="5866200" y="1714680"/>
            <a:ext cx="28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chool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feld 4"/>
          <p:cNvSpPr/>
          <p:nvPr/>
        </p:nvSpPr>
        <p:spPr>
          <a:xfrm>
            <a:off x="5863680" y="477360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 years of compulsory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1571760" y="1000080"/>
            <a:ext cx="2571480" cy="4226040"/>
          </a:xfrm>
          <a:prstGeom prst="rect">
            <a:avLst/>
          </a:prstGeom>
          <a:ln w="0">
            <a:noFill/>
          </a:ln>
        </p:spPr>
      </p:pic>
      <p:sp>
        <p:nvSpPr>
          <p:cNvPr id="50" name="Textfeld 7"/>
          <p:cNvSpPr/>
          <p:nvPr/>
        </p:nvSpPr>
        <p:spPr>
          <a:xfrm>
            <a:off x="4359960" y="7858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irag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Geschweifte Klammer rechts 8"/>
          <p:cNvSpPr/>
          <p:nvPr/>
        </p:nvSpPr>
        <p:spPr>
          <a:xfrm>
            <a:off x="5429160" y="3357720"/>
            <a:ext cx="357120" cy="314316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3143160"/>
              <a:gd name="textAreaBottom" fmla="*/ 3134160 h 31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3"/>
                  <a:pt x="10800" y="205"/>
                </a:cubicBezTo>
                <a:lnTo>
                  <a:pt x="10800" y="10595"/>
                </a:lnTo>
                <a:cubicBezTo>
                  <a:pt x="10800" y="10698"/>
                  <a:pt x="16200" y="10800"/>
                  <a:pt x="21600" y="10800"/>
                </a:cubicBezTo>
                <a:cubicBezTo>
                  <a:pt x="16200" y="10800"/>
                  <a:pt x="10800" y="10903"/>
                  <a:pt x="10800" y="11005"/>
                </a:cubicBezTo>
                <a:lnTo>
                  <a:pt x="10800" y="21395"/>
                </a:lnTo>
                <a:cubicBezTo>
                  <a:pt x="10800" y="214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D-SCHUE30"/>
          <p:cNvPicPr/>
          <p:nvPr/>
        </p:nvPicPr>
        <p:blipFill>
          <a:blip r:embed="rId1"/>
          <a:stretch/>
        </p:blipFill>
        <p:spPr>
          <a:xfrm>
            <a:off x="428760" y="285840"/>
            <a:ext cx="5503680" cy="364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-SCHUE29"/>
          <p:cNvPicPr/>
          <p:nvPr/>
        </p:nvPicPr>
        <p:blipFill>
          <a:blip r:embed="rId2"/>
          <a:stretch/>
        </p:blipFill>
        <p:spPr>
          <a:xfrm>
            <a:off x="6143760" y="2357280"/>
            <a:ext cx="27921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D-TEEN04"/>
          <p:cNvPicPr/>
          <p:nvPr/>
        </p:nvPicPr>
        <p:blipFill>
          <a:blip r:embed="rId1"/>
          <a:stretch/>
        </p:blipFill>
        <p:spPr>
          <a:xfrm>
            <a:off x="642960" y="357120"/>
            <a:ext cx="3313080" cy="5451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D-TEEN06"/>
          <p:cNvPicPr/>
          <p:nvPr/>
        </p:nvPicPr>
        <p:blipFill>
          <a:blip r:embed="rId2"/>
          <a:stretch/>
        </p:blipFill>
        <p:spPr>
          <a:xfrm>
            <a:off x="5072040" y="1785960"/>
            <a:ext cx="29066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Konfuzius"/>
          <p:cNvPicPr/>
          <p:nvPr/>
        </p:nvPicPr>
        <p:blipFill>
          <a:blip r:embed="rId1"/>
          <a:stretch/>
        </p:blipFill>
        <p:spPr>
          <a:xfrm>
            <a:off x="1571760" y="642960"/>
            <a:ext cx="2136600" cy="374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Image66"/>
          <p:cNvPicPr/>
          <p:nvPr/>
        </p:nvPicPr>
        <p:blipFill>
          <a:blip r:embed="rId2"/>
          <a:stretch/>
        </p:blipFill>
        <p:spPr>
          <a:xfrm>
            <a:off x="5292720" y="2924280"/>
            <a:ext cx="2529000" cy="2528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539640" y="458136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95280" y="404640"/>
            <a:ext cx="3816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5 virtu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tual lo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g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scientious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nes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tua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420280" y="3573360"/>
            <a:ext cx="138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3 duties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1. Loyal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2. Resp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 Poli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3059280" y="1844640"/>
            <a:ext cx="36036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227560" y="155736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Confucian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feld 11"/>
          <p:cNvSpPr/>
          <p:nvPr/>
        </p:nvSpPr>
        <p:spPr>
          <a:xfrm>
            <a:off x="457200" y="5429160"/>
            <a:ext cx="50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earning without thinking is senseless, but thin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ithout learning is dangerous.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444E-006 L 0.08664 -0.06319 E">
                                      <p:cBhvr>
                                        <p:cTn id="11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13386 -0.06297 E">
                                      <p:cBhvr>
                                        <p:cTn id="120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2743200" cy="4105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258920" y="1268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anj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245412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5364000" y="1052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iragana (syllabar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2419560" cy="4105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1187280" y="907920"/>
            <a:ext cx="331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atak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ssimplified syllabar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64600" y="26028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etterings of Jap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091200" y="162864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oma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Object 2"/>
          <p:cNvGraphicFramePr/>
          <p:nvPr/>
        </p:nvGraphicFramePr>
        <p:xfrm>
          <a:off x="5003640" y="2492280"/>
          <a:ext cx="3571920" cy="340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3640" y="2492280"/>
                    <a:ext cx="357192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800"/>
                            </p:stCondLst>
                            <p:childTnLst>
                              <p:par>
                                <p:cTn id="1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35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069 0.00023 L 0.66632 -0.17245 E">
                                      <p:cBhvr>
                                        <p:cTn id="176" dur="3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0486 -0.18889 E">
                                      <p:cBhvr>
                                        <p:cTn id="18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1600200"/>
            <a:ext cx="7715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ur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oll of O-Ton Radio Korea Inter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www.Japan-link.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www.Japan-Photo.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www.wikipedia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ttp://www.sprachschule-info.de/schulsystem-japan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ttp://thema.jnbw.de/weltweit/107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ttp://blog.marume.de/2009/09/24/das-japanische-schulsystem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2:29:21Z</dcterms:created>
  <dc:creator>Selpo</dc:creator>
  <dc:description/>
  <dc:language>en-US</dc:language>
  <cp:lastModifiedBy>Selpo</cp:lastModifiedBy>
  <dcterms:modified xsi:type="dcterms:W3CDTF">2010-02-28T20:49:27Z</dcterms:modified>
  <cp:revision>24</cp:revision>
  <dc:subject/>
  <dc:title>School system of Japan</dc:title>
</cp:coreProperties>
</file>